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3717B-A1D9-4552-ABAF-81DF0B797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22E59-AE10-4AEB-B6DE-E1988C97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262B0-905B-4D28-A6F5-7B7635C6A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F4998-7791-411A-B4EE-96BC0F1D9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4CBF7-90E0-45EA-B441-8842115C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0D46B-084A-468F-B466-6B9EAF83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F3256-6746-4701-ABCC-1C8B8134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5BF09-6723-4C66-9765-147A06B8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72E57-FB6E-44C5-8859-C69E965F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F1D75-048F-4D69-AE51-C68F5AE7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1F8DD-96A4-4A2E-95CD-8E13FC20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892C6-960F-4F1C-900B-2BB5BD53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76FF-9883-4A79-B823-90ACA1C76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formation Technolog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rvice Availability Metr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y 2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8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8229600" y="6400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04920" y="966960"/>
          <a:ext cx="8361360" cy="48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66960"/>
                    <a:ext cx="836136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y 2008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8229600" y="6400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04920" y="1022400"/>
          <a:ext cx="8381880" cy="472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22400"/>
                    <a:ext cx="8381880" cy="47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Transaction Processing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8229600" y="6400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80880" y="896760"/>
          <a:ext cx="8101080" cy="489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96760"/>
                    <a:ext cx="8101080" cy="489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ML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8229600" y="6400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868320"/>
          <a:ext cx="7912080" cy="492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68320"/>
                    <a:ext cx="7912080" cy="49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rak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8229600" y="6400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9480" y="876240"/>
          <a:ext cx="7629480" cy="49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876240"/>
                    <a:ext cx="7629480" cy="49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asmallwood</cp:lastModifiedBy>
  <dcterms:modified xsi:type="dcterms:W3CDTF">2008-06-19T22:17:47Z</dcterms:modified>
  <cp:revision>147</cp:revision>
  <dc:subject/>
  <dc:title>Instructions</dc:title>
</cp:coreProperties>
</file>